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580-6703-407A-ADC1-BB18CCD7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1BD-BA46-4F9A-A4D2-5031537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B50-3803-45F7-B5D6-48624C21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303-FEA9-4926-8F86-2ACF58A1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81FA-23B7-476C-A788-750FBF99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A668-2BC9-4287-A801-B1B796F2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7973-3F1A-4674-8EEF-2356BF7C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9E0F-8322-4720-AE5C-8E010C97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0673-2116-453A-BCC6-11DD75CE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17D1-1914-4265-BDB0-0555E28C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F561-FA65-47F6-86DA-71287CAC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401-3C61-4AEF-8267-6B70E214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DEBA-DA69-459C-80D8-09FCC4B4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9511-AB78-41FA-983E-31DAE04C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B05A-CD86-46A1-83DA-82DDC11D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E8BE-3ADA-4203-91A6-1DCF89DB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A135-57D6-4FD7-9FDD-DD079F72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8FF-CA47-4E4E-B79A-C916B3DA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DEC-3601-4564-B684-8ACBFA22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F3C-75B9-4E3E-B51C-E74A240D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0ED-F614-45EC-B77A-3FA38B47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6B3-4A41-45BF-8864-51829235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9D6-7B6F-4525-8D5B-255A5BF7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C47-76A3-413C-81BE-4B1EC5C3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5F4D-4E01-459A-9F95-8FD3F07B9E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BAFD-C90E-42B6-8BC5-F2DBB54F1D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cclesiastes</a:t>
            </a:r>
            <a:br>
              <a:rPr sz="4400"/>
            </a:br>
            <a:r>
              <a:rPr b="0" i="1" lang="en-US" sz="4400" spc="-1" strike="noStrike">
                <a:solidFill>
                  <a:srgbClr val="eaeaea"/>
                </a:solidFill>
                <a:latin typeface="Souvenir Lt BT"/>
              </a:rPr>
              <a:t>Life Under the Sun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Us A King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nited 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s 194-2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cclesiasties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heleth - “the preacher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Who Was The Author?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om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 certainty, but it has his sty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 of David (1: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g of Israel in Jerusalem (1:1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wisdom from above (1:1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other author seriously consid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question that it is inspired writings, so we can benefit from its’ wis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Terms Used in the Book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the su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fe on earth from birth to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alue of life when compared to pleasures and problems it b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cannot rely on things in this life for ans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according to God’s standards provides a plan for life under the s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Terms Used in the Book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rry, empty, worthless, fl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easures of life are not la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fe has no value without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ing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s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’s: Experiences learned from li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’s: Knowledge gained from God’s w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Terms Used in the Book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ise 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who learns from his own mistakes and those of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ed and info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who does not learn from the experiences of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gnorant of the things that matter in this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Terms Used in the Book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young 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who lacks the experiences of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e one”; uneduc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ïve by placing trust in worldly posse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not seek God’s wis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01:04:24Z</dcterms:created>
  <dc:creator>Frank D Vines</dc:creator>
  <dc:description/>
  <dc:language>en-US</dc:language>
  <cp:lastModifiedBy>Frank D Vines</cp:lastModifiedBy>
  <dcterms:modified xsi:type="dcterms:W3CDTF">2005-09-20T15:29:26Z</dcterms:modified>
  <cp:revision>9</cp:revision>
  <dc:subject/>
  <dc:title>Ecclesiastes Life Under the Su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